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0378-A817-4C1C-BF2A-7458D68CB2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A5125-B990-448C-811D-DC97D1599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5B267-F34D-44B2-8C41-C4AF173D6D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0756-F523-45B7-9881-C4C2E3444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A8AEFE-B512-4A18-9291-4782FCFEB2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46A6B-6400-4ED4-9A80-50E1A1779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EED3CB-265A-41FD-A32E-D2A4341436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927C0-6356-48E5-BE56-13E76EC6D0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AFC065-C15B-4F9A-A2F7-543096A9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C6EF53-A369-47A5-A413-6E2E5842DF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4F599C-DD19-4C91-B64C-0682ADF4E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931584-0826-4C0A-A955-4F86F7AE6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50C2B-32E1-419B-8752-C1564E125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7ACAAD-72AF-4AB4-8634-20E049857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A11A81-23A3-4863-8C3F-F47582FFE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E19ABB-EE6D-4D2D-A01E-77A0AE6CF5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B515C-22BB-45EF-AA48-048B663C22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0AFE5-D7B5-43B2-A518-4CE18FC2FA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6FF24-98A6-4EF8-9FB1-77985216C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EBEC-100A-4A48-AEBF-707FDEA8A5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D310D-9107-4981-9FCF-0590D3451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F6D0-9C86-425B-A59A-98ACE0804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C7A3A-3F25-4CC0-9507-F33227683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CFB13-A96A-49E2-9860-5C825663A7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4F3D0-02FB-4C41-88EC-1E17710EA7D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2138C-955F-42AD-ABEF-FF6ED547DAF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Network Securit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lock cip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 plain text in fixed block sizes producing block of cipher text of equal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encryption standard (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ple DES (T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Encryption 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64 bit plain text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6 bi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8271"/>
          <a:stretch/>
        </p:blipFill>
        <p:spPr>
          <a:xfrm>
            <a:off x="3338640" y="0"/>
            <a:ext cx="58053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 Sing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6669"/>
          <a:stretch/>
        </p:blipFill>
        <p:spPr>
          <a:xfrm>
            <a:off x="990720" y="1371600"/>
            <a:ext cx="7391160" cy="5413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ength of 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lared insecure in 199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lectronic Frontier Found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Cracker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 now worth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ternatives include T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iple DE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SI X9.17 (198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rporated in DEA standard 199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3 keys and 3 executions of DEA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key length 168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cation of Encryption De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883"/>
          <a:stretch/>
        </p:blipFill>
        <p:spPr>
          <a:xfrm>
            <a:off x="609480" y="1447920"/>
            <a:ext cx="7772400" cy="517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nk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communication link equipped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ffic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level of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lots of encryption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must be decrypted at each switch to read address (virtual circuit numb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vulnerable at switch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icularly on public switche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d to End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done at ends of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encrypted form crosses network unalt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shares key with source to decry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can only encrypt 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wise switching nodes could not read header or route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pattern not sec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oth link and end to 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selected by A and delivered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party selects key and delivers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encrypt and transmit new key from A to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old key to transmit new key from third party to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vail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4957"/>
          <a:stretch/>
        </p:blipFill>
        <p:spPr>
          <a:xfrm>
            <a:off x="533520" y="1600200"/>
            <a:ext cx="8001000" cy="44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Key Distribu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uration of one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royed at end of s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istribution of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distribution ce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rmines which systems may communicat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one session key for that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nt end process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forms end to end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btains keys fo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ffic Pad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duce cipher text continuous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lain text to encode, send random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 traffic analysis im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ection against active atta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lsification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vesdrop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s authentic if it is genuine and comes from the alleged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allows receiver to verify that message is authen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is from authentic 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 time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Us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s sender and receiver are only entities that know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includ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cod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stam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Without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tag generated and appended to eac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ssage not encryp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for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ssages broadcas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ve one destination responsible for authent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ide heavily loa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cryption adds to workloa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authenticate random messag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grams authenticated without encryption can be executed without de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nerate authentication code based on shared key and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 key shared between A and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nly sender and receiver know key and code match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has not alte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red message is from alleged sen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ssage has sequence number, receiver assured of proper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ssage Authentication Using Message Authentication C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21727"/>
          <a:stretch/>
        </p:blipFill>
        <p:spPr>
          <a:xfrm>
            <a:off x="533520" y="1681200"/>
            <a:ext cx="8001000" cy="4719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Way Hash Fun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s variable size message and produces fixed size tag (message diges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 of authentication without en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hardware optimized to larg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covered by pat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gorithms subject to export controls (from US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n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9141"/>
          <a:stretch/>
        </p:blipFill>
        <p:spPr>
          <a:xfrm>
            <a:off x="2746440" y="0"/>
            <a:ext cx="63975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ss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vesdropping on transmis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obtain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ease of message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sider learns content of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 monitoring frequency and length of messages, even encrypted, nature of communication may be gues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icult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prev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e Hash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sh function must have following proper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applied to any size data b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duce fixed length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comp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rever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easible to find two message that give the same ha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HA-1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Hash Algorithm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put message less than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64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cessed in 512 bit blo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160 bit dig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mathematical algorith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separate ke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gredi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c and private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685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ryption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4459"/>
          <a:stretch/>
        </p:blipFill>
        <p:spPr>
          <a:xfrm>
            <a:off x="4095720" y="19080"/>
            <a:ext cx="5048280" cy="65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blic Key Encryp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key made publ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kept priv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for de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easible to determine decryption key given encryption key and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key can be used for encryption, the other for decry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ep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generates pair of ke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places one key in public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send a message to user, encrypt using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ecrypts using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encrypts message with their private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decrypt using sneders public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authenticates sender, who is only person who has the matching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es not give privacy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rypt key is publ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0698"/>
          <a:stretch/>
        </p:blipFill>
        <p:spPr>
          <a:xfrm>
            <a:off x="4334040" y="0"/>
            <a:ext cx="480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SA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0" t="0" r="0" b="31399"/>
          <a:stretch/>
        </p:blipFill>
        <p:spPr>
          <a:xfrm>
            <a:off x="533520" y="2200320"/>
            <a:ext cx="8153280" cy="20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4 and IPv6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branch office connectivity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e remote access over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net and intranet connectiv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hanced electronic commerce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tive Attac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quera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tending to be a different ent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ication of mess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nial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sy to det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tection may lead to deterr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prev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Sec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y ex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2401,2402,2406,240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Associ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way relationship between send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o way, two associations are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SA identification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arameter ind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 protocol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A Parame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cou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counter overfl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ti-reply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H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 inform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fetime of this associ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Sec protoco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unnel, transport or wildc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t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port and Tunnel Mod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upper layer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s to payload of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between h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nel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ection for IP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re packet treated as payload for outer IP “packe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routers examine inner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have different source and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mplemented at firew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hentic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24862"/>
          <a:stretch/>
        </p:blipFill>
        <p:spPr>
          <a:xfrm>
            <a:off x="457200" y="1762200"/>
            <a:ext cx="8077320" cy="3271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ng Security Payloa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dentiality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P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2787"/>
          <a:stretch/>
        </p:blipFill>
        <p:spPr>
          <a:xfrm>
            <a:off x="1371600" y="1371600"/>
            <a:ext cx="6486480" cy="39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ope of ES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1479"/>
          <a:stretch/>
        </p:blipFill>
        <p:spPr>
          <a:xfrm>
            <a:off x="990720" y="1371600"/>
            <a:ext cx="62481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ey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u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AKMP/Oakl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akley key determination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net security association and key management protoc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curity Thre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38496"/>
          <a:stretch/>
        </p:blipFill>
        <p:spPr>
          <a:xfrm>
            <a:off x="457200" y="2104920"/>
            <a:ext cx="822960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ventional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28281"/>
          <a:stretch/>
        </p:blipFill>
        <p:spPr>
          <a:xfrm>
            <a:off x="533520" y="2057400"/>
            <a:ext cx="8076960" cy="3170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gredi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in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ret k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pher 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Secur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ong encryption algorith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known, should not be able to decrypt or work out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if a number of cipher texts are available together with plain texts of th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and receiver must obtain secret key secur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key is known, all communication using this key is read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acking Encryp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ypt analys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y on nature of algorithm plus some knowledge of general characteristics of plain t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mpt to deduce plain text or ke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ute fo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y every possible key until plain text is achie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8T17:39:45Z</dcterms:created>
  <dc:creator>Adrian &amp; Wendy</dc:creator>
  <dc:description/>
  <dc:language>en-US</dc:language>
  <cp:lastModifiedBy>Adrian J Pullin</cp:lastModifiedBy>
  <dcterms:modified xsi:type="dcterms:W3CDTF">1999-11-10T15:42:13Z</dcterms:modified>
  <cp:revision>42</cp:revision>
  <dc:subject/>
  <dc:title>William Stallings Data and Computer Communications</dc:title>
</cp:coreProperties>
</file>