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2.xml" ContentType="application/vnd.openxmlformats-officedocument.presentationml.slide+xml"/>
  <Override PartName="/ppt/slides/slide23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E6E35-1B44-4231-9A06-813BB6F3FA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E0E7A-F914-4C95-B2A5-3F6667428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C463A-67AE-4057-9E07-27709AEF93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2D0E-B381-4924-8439-D24452874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5CB05-1544-4443-840B-AA190EB09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A4CD0F-AC23-4814-9FE3-7715B1492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4419-7856-4F5F-A36E-CDBB4A4394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A381D9-99E4-4886-B582-98AF6D117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3D37F8-83C6-496F-A35B-30AA37C096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5D138-F6C0-4E4B-AC7E-7A5D02965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CC63AE-24E1-4128-AA16-F34ACA517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7547-8442-4C00-A62F-C3C431B5DF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BEF55-F57D-42BA-AE53-30EFC6C62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09B897-F88D-4869-B1F6-48EA7EE6A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7836DC-FD19-4319-A008-5589C4DBF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51F4B-3FDE-4369-B4E8-322270BEA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5B3DA4-A027-41DF-886B-93AE469B42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72C5F-A7F2-4DBE-BFFD-ED6C07EC3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9FE09-7E00-4653-89EE-1DCBD7FB5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8D36-3ED8-483A-BB28-35038596F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1BFE-422B-427D-AD36-AC884BD85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7006-6B37-434A-A5CB-FF60E5F3D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18D1A-8023-42F0-B867-254ACE43B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EF25A-0325-47C9-848C-9646847A0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CD02D-1785-4F3A-95B6-1355743D4B14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D9306-6F04-42A8-9ADF-8CDCABF8897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ocal Area Network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echnology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Protocols in Contex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10763"/>
          <a:stretch/>
        </p:blipFill>
        <p:spPr>
          <a:xfrm>
            <a:off x="533520" y="1371600"/>
            <a:ext cx="7924680" cy="516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al case of t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trunk, no branch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Topolo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5440"/>
          <a:stretch/>
        </p:blipFill>
        <p:spPr>
          <a:xfrm>
            <a:off x="685800" y="1371600"/>
            <a:ext cx="7696080" cy="54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and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oint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propagates throughout medium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rd by all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to identify target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ch station has unique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connection between station and ta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for transmission and rece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regulat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colli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void hogg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48600" indent="-189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ta in small blocks -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rminator absorbs frames at end of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Transmission - Bu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0716"/>
          <a:stretch/>
        </p:blipFill>
        <p:spPr>
          <a:xfrm>
            <a:off x="2362320" y="1371600"/>
            <a:ext cx="44164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joined by point to point links in clos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data on one link and retransmit on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s unidirectio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ttach to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irculate past all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recognizes address and copies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irculates back to source where it is remo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determines when station can inser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7911"/>
          <a:stretch/>
        </p:blipFill>
        <p:spPr>
          <a:xfrm>
            <a:off x="4000680" y="457200"/>
            <a:ext cx="5143320" cy="6095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tation connected directly to central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via two point to poin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star, logical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node can act as frame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reater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mple access logic at s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problems of co-ord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ngle point of fail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tential bottlene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fic capacity dedicated to conn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ynchrono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response to dema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nchronous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if many stations have data to transmit over extended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stream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for bursty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contend fo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to imp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t under moderate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nd to collapse under heavy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sonal computer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 end networks and storage area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ing large systems (mainframes and large storage devic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data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speed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stributed acc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dist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number of de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receives data from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C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ayer detects errors and discards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LC optionally retransmits unsuccessfu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of link level PDUs between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upport multiaccess, shared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eved of some link access details by MA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involves specifying source and destination LLC us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red to as service access points (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higher leve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mode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d connectionless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L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eled after 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to support connection mode LLC service (type 2 operat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numbered information PDUs to support Acknowledged connectionless service (typ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 using LS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ical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4477"/>
          <a:stretch/>
        </p:blipFill>
        <p:spPr>
          <a:xfrm>
            <a:off x="533520" y="1744560"/>
            <a:ext cx="8001000" cy="43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balanc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must be strong enough to meet receiver’s minimum signal strength requir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 adequate signal to noise 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o strong that it overloads transmit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satisfy these for all combinations of sending and receiving station on b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 to divide network into small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segments with amplifies or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practical in shared bus at higher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Eth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band coaxial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in 802.3 specification but no longer ma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ens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y with avail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new install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d by star based twisted pair and optical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axial Cab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digital signa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 or Differential Manchester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re frequency spectrum of cabl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hannel on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-directio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w kilometer r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(basis for 802.3)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50 ohm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thernet and 802.3 originally used 0.4 inch diameter cable at 1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cable length 5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aps a multiple of 2.5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sures that reflections from taps do not add in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100 ta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Base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Base2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ap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25 inch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bring to work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aper electronic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attenu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noise res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wer taps (3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istance (185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pplic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speed offic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ktop image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capacity local sto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low speed local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a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peat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s in both dire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Joins two segments of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buff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gical isolation of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on different segments send at the same time, packets will colli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one path of segments and repeaters between any tw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eband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583"/>
          <a:stretch/>
        </p:blipFill>
        <p:spPr>
          <a:xfrm>
            <a:off x="1905120" y="1371600"/>
            <a:ext cx="5715000" cy="541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repeater connects to two others via unidirectional transmission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clos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red bit by bit from one repeater to the n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generates and retransmits each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performs data insertion, data reception, data 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acts as attachment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removed by transmitter after one trip round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Repeater Sta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28957"/>
          <a:stretch/>
        </p:blipFill>
        <p:spPr>
          <a:xfrm>
            <a:off x="533520" y="2162160"/>
            <a:ext cx="8076960" cy="229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isten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n passing bit stream for patter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of attached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ken permission to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py incoming bit and send to attach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st forwarding each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ify bit as it pa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o indicate a packet has been copied (AC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t State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has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has per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ceive incoming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ing bit length shorter than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ss back to station for checking (ACK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packet o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 for retransmission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ypass St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 propagate past repeater with no delay (other than propagation dela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ial solution to reliability problem (see lat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ing Med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ber opt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broadband coax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uld have to receive and transmit on multiple channels, asynchronous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ing J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21896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 included with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differential Manchester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ed by repea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 know when to sample signal and recover b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clocking for retransmis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39000" indent="-245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ck recovery deviates from midbit transmission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82800" indent="-196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erfections in circuitr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without distortion but with timing err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 effect is that bit length v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4840" indent="-294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s number of repeaters o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lving Timing Jitter Limit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uses phase locked lo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ize deviation from one bit to the nex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uffer at one or more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ld a certain number of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and and contract to keep bit length of ring consta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ificant increase in maximum ring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tential Ring 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eak in any link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failure disable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ation of new repeater to attach new station requires identification of two topologically adjacent repea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ing j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thod of removing circulating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backup in case of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tly solved with star-ring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Ring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 all inter-repeater links to single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vides central access to signal on every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ier to find fa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aunch message into ring and see how far it g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y segment can be disconnected and repaired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w repeater can be added easi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ypass relay can be moved to concentrat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lead to long cable ru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nect multiple rings using bri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r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unshielded twisted pair wire (telephon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installation c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already be an installed 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locations in building covered by existing install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ach to a central active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 and rece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ub repeats incoming signal on all outgoing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lengths limited to about 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ber optic - up to 500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bus - with collis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Level Star Top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12903"/>
          <a:stretch/>
        </p:blipFill>
        <p:spPr>
          <a:xfrm>
            <a:off x="838080" y="1371600"/>
            <a:ext cx="7086600" cy="539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Swit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hared medium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retransmits incoming signal to all outgoing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one station can transmi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a 10Mbps LAN, total capacity is 1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LAN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ub acts as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oming frame switches to appropriate outgoing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used lines can also be used to switch other traff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th two pairs of lines in use, overall capacity is now 20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d Hub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change to software or hardware of de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device has dedicated capac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es w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re and forward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input, buffer it briefly, then out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t through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ake advantage of the destination address being at the start of th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gin repeating incoming frame onto output line as soon as address recogn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propagate some ba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ubs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es (dia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6483"/>
          <a:stretch/>
        </p:blipFill>
        <p:spPr>
          <a:xfrm>
            <a:off x="4438800" y="14400"/>
            <a:ext cx="4705200" cy="63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rd to wire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cost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 of wire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Appl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 building inter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madic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 hoc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Exten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ings with large open are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ufacturing pla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rehou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storical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mall off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mixed with fixed wiring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s of OSI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 reference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a access control (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gle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rcRect l="0" t="0" r="0" b="7995"/>
          <a:stretch/>
        </p:blipFill>
        <p:spPr>
          <a:xfrm>
            <a:off x="914400" y="1371600"/>
            <a:ext cx="6705720" cy="54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 Cell Wireless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rcRect l="0" t="0" r="0" b="9123"/>
          <a:stretch/>
        </p:blipFill>
        <p:spPr>
          <a:xfrm>
            <a:off x="457200" y="1606680"/>
            <a:ext cx="8153280" cy="502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oss Building Interconn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 wireless link between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connecting bridges or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where cable connection not poss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ross a stre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madic Acc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bile data termi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lapt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data from laptop to 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mpus or cluster of buildin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 Hoc 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er to pe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mpor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con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rcRect l="0" t="0" r="0" b="45919"/>
          <a:stretch/>
        </p:blipFill>
        <p:spPr>
          <a:xfrm>
            <a:off x="181080" y="1447920"/>
            <a:ext cx="4848120" cy="365760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rcRect l="15128" t="55215" r="14148" b="5351"/>
          <a:stretch/>
        </p:blipFill>
        <p:spPr>
          <a:xfrm>
            <a:off x="5562720" y="2057400"/>
            <a:ext cx="34290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Requir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of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o backb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ar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tery power consum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robustness and 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ocated network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cense free op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ndoff/ro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Technolo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 (IR)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spectrum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arrow band microwa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ility to expand beyond single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interconnection to other LANs/W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idge or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is simp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similar L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cal protocols for physical and link lay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al process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ore general purpo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 various LANs and WA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Bridge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eograp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 v OS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6091"/>
          <a:stretch/>
        </p:blipFill>
        <p:spPr>
          <a:xfrm>
            <a:off x="1447920" y="1371600"/>
            <a:ext cx="6019560" cy="538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 of a Bridg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d all frames transmitted on one LAN and accept those address to any station on the other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ing MAC protocol for second LAN, retransmit each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the same the other way rou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rcRect l="0" t="0" r="0" b="6797"/>
          <a:stretch/>
        </p:blipFill>
        <p:spPr>
          <a:xfrm>
            <a:off x="1219320" y="1371600"/>
            <a:ext cx="6686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Design Aspec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modification to content or format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act bitwise cop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al buffering to meet peak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ains routing and address intellig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able to tell which frames to p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more than one bridge to cro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nect more than two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ing is transparent to s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to all stations on multiple LANs as if they are on one single LA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idge Protocol Archite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level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address is at this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does not need LLC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relaying MAC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ass frame over external comms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W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pture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apsulat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ward it acros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move encapsulation and forward over LAN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f Two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rcRect l="0" t="0" r="0" b="15832"/>
          <a:stretch/>
        </p:blipFill>
        <p:spPr>
          <a:xfrm>
            <a:off x="533520" y="1533600"/>
            <a:ext cx="8001000" cy="42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large LANs need alternative rou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ad bala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ult toler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ether to forwar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must decide which LAN to forward frame 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selected for each source-destination pair of LA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e in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least hop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changed when topology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1"/>
          <a:srcRect l="0" t="0" r="0" b="12427"/>
          <a:stretch/>
        </p:blipFill>
        <p:spPr>
          <a:xfrm>
            <a:off x="1981080" y="1371600"/>
            <a:ext cx="496728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 automatically develops routing 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ally update in response to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wa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op resol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forwar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ain forwarding database for each 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st station addresses reached through each p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frame arriving on port X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arch forwarding database to see if MAC address is listed for any port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not found, forward to all ports except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ddress listed for port Y, check port Y for blocking or forwarding st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locking prevents port from receiving or transmit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 blocked, transmit frame through port 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Lear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reload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learn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rame arrives at port X, it has come form the LAN attached to port 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source address to update forwarding database for port X to include tha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r on each entry in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ime frame arrives, source address checked against forwarding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oding/de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amble generation/remo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transmission/recep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medium and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anning Tree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learning works for tree lay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o closed lo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ny connected graph there is a spanning tree that maintains connectivity but contains no closed loo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bridge assigned unique identif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between bridges to establish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op of Brid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rcRect l="0" t="0" r="0" b="10935"/>
          <a:stretch/>
        </p:blipFill>
        <p:spPr>
          <a:xfrm>
            <a:off x="2057400" y="1447920"/>
            <a:ext cx="5105520" cy="419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info on the We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ogical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to higher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 Layers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embly of data into frame with address and error detection fiel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ssembly of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vern access to transmissi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ound in traditional layer 2 data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he same LLC, several MAC options may be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15T13:05:51Z</dcterms:created>
  <dc:creator>Adrian &amp; Wendy</dc:creator>
  <dc:description/>
  <dc:language>en-US</dc:language>
  <cp:lastModifiedBy>Adrian J Pullin</cp:lastModifiedBy>
  <dcterms:modified xsi:type="dcterms:W3CDTF">1999-11-18T18:32:04Z</dcterms:modified>
  <cp:revision>122</cp:revision>
  <dc:subject/>
  <dc:title>William Stallings Data and Computer Communications</dc:title>
</cp:coreProperties>
</file>