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13D28-018B-41FD-98B1-911097D3E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BD2AD-AA12-4710-BD3E-282256045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888D8-C49E-406C-828B-DBDD1881E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D0E5E-4F2A-4B7F-8BA9-178716BBD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1DA98-3D3B-4240-B970-B8B84EC04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C1FF3-9EC0-452E-9654-C0015A07E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790F7-BF73-4970-91F5-D19CCFEF2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FD1E4-9F91-4F94-8D6F-8576F21F7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10448-A140-45D4-A055-80CEA2387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CCD93-3DB7-45E0-B21F-1C0732E2D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E3F7B-789B-430E-BA16-ED0371A59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3C704-D3C0-4738-A667-5B7D10A37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E4ACA-5455-4133-8EED-D0BCFE618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DB319-79BE-414A-98C6-0863C7DB9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D2015-653F-4120-8A96-FE8FB0F40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0C188-DA55-48ED-8020-491C9A723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524B9-4D2F-4AAF-A742-725199E21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CA491-02DA-4EEA-9DBA-3DF72EB38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FD9DF-B30A-45CA-AA8D-99A391E36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2F903-EDE5-4000-AFC8-79042757F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0AA2F-D40F-4848-90F4-8069D242F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2F27D-1A09-4428-A6F5-7BA004615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00DF0-6555-4CEC-8627-CF5D6C9E2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1BBB5-2BC2-4662-93E1-AC27225E5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BA7FB-0BE4-4361-AB63-2760992A546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97926-C5C6-4C54-AB99-F57E38EA977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sent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hunks (packets) of data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passed from node to node between source and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terminal to computer and computer to computer 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systems have large overheads to compensate for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rn systems are more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s can be caught in en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overhead for error control is stripped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ution of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ttle overhead fo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packet (called cell)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thing from 10Mbps to G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data rate using packet switching techn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d Services Digita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replace public telecom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de variety of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ly digital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or small cam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owned by same organization as attached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much hig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roadcas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w some switched systems and ATM are being intro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communications between entities in a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peak the same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-mail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te sen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 of a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an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 ma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sk of communication broken up into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example file transfer could use three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service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File Transfer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92480"/>
            <a:ext cx="800100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Three Layer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Communications Model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s data to be transmit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data into transmittable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s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received signal into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s incoming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the computer and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ing computer provides address of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voke level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ent on type of network used (LAN, packet switched etc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ata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being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different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e-mail, fil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evels of addressing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puter needs unique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application on a (multi-tasking) computer needs a unique address within the comp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ervice access point or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s an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528"/>
          <a:stretch/>
        </p:blipFill>
        <p:spPr>
          <a:xfrm>
            <a:off x="1676520" y="1752480"/>
            <a:ext cx="561024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 in Simplified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47840"/>
            <a:ext cx="807696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Data Units (PDU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ach layer, protocols are used to commun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rmation is added to user data at each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 may fragmen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gment has a transport header ad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a transport protocol data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s network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 for destination 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ies reque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a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22372"/>
          <a:stretch/>
        </p:blipFill>
        <p:spPr>
          <a:xfrm>
            <a:off x="685800" y="2117880"/>
            <a:ext cx="784872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US Defense Advanced Research Project Agency (DARPA) for its packet switched network (ARPAN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global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official model but a working o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o host or transpor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Communications Model -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060"/>
          <a:stretch/>
        </p:blipFill>
        <p:spPr>
          <a:xfrm>
            <a:off x="457200" y="1676520"/>
            <a:ext cx="8153280" cy="47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interface between data transmission device (e.g. computer) and transmission medium o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of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end system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 pro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voking services like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Layer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 may be attached to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functions across multipl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ed in end system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 (TC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eliver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ing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ttp, SM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914400" y="1676520"/>
            <a:ext cx="7315200" cy="50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Systems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International Organization for Standardization (IS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theoretical system delivered too lat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is the de facto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v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16127"/>
          <a:stretch/>
        </p:blipFill>
        <p:spPr>
          <a:xfrm>
            <a:off x="838080" y="1676520"/>
            <a:ext cx="7772400" cy="51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d to allow for interoperability between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a large market for equipment and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products from different vendors to commun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eze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ultiple standards for the same t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Communications T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System Uti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r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ing and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format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 Organiz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Socie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(formally CCIT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rther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, W. Data and Computer Communications (6th edition), Prentice Hall 1999 chapter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 for Stallings boo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ww.shore.net/~ws/DCC6e.htm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for IETF, IEEE, ITU-T, 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Requests for Comment (RF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net News grou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dcom.*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protocols.tcp-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Data Communications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9050"/>
          <a:stretch/>
        </p:blipFill>
        <p:spPr>
          <a:xfrm>
            <a:off x="457200" y="2295360"/>
            <a:ext cx="8153280" cy="28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communication not usually prac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re too far a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set of devices would need impractical number of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Network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914400" y="1668600"/>
            <a:ext cx="6705720" cy="51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de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geographical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ing public rights of w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in part on common carrier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 Transfer Mode (AT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s path established for the duration of the convers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0:42Z</dcterms:modified>
  <cp:revision>15</cp:revision>
  <dc:subject/>
  <dc:title>William Stallings Data and Computer Communications</dc:title>
</cp:coreProperties>
</file>